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07F-CC60-41C6-95F5-969C4FCC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664-EE54-4705-9411-BFC0AAF2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A5B-4C7A-420D-BDB8-5127C666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A6E-B840-47C2-8F9C-B093CD23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8C30-FA10-43A0-9EA6-464570D4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1F89-60C9-4851-95E3-79662449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E435-0E84-4389-83FA-54351069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0358-D66F-4D2E-95F4-1BB5F4C3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D7C6-A68D-4255-8895-B8132CD4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FAB6-2F6A-40E1-AF5F-2A91C737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2CA0-E6A7-42DF-8CFD-BCBEB52A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B98-4F96-4A99-B345-940C954A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ED24-5977-4559-BAC1-971135A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EEA7-F2CE-49E7-A248-62A0644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95EE-24F2-47A7-AFB1-14E567AE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F940-27C7-4EAC-A492-39B51F19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D59E-EF4D-4A9F-AFDB-225E3BBE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35D-FA13-4806-889E-FE29F9B9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7F4-D4BC-4492-A4C0-83ADE703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1E9-06CE-4BFC-A809-05DA6ACD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5FC-130E-4108-B8FF-32EAF6AD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FC9-85A8-44D8-BD9F-DF4ED37F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47F-2D57-4B33-B040-C5F0688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D7D-DFC3-497E-A077-DA1D7E74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0343-7C9F-4511-969F-A1C02FA6E2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EED2-7677-4B98-91C6-ABC788B4922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Arial"/>
              </a:rPr>
              <a:t>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alth Manag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rs. Schroe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-2 For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ms of Income to Repor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 li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total amount of tax that a person must pa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xpayers pay this through withholdings, estimated tax payments, and payments attached to their yearly tax for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ome – based on amount of income you make per ye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les – based on the amount sol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tnam Co = 5.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hio = 1.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perty – real es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cise – gaso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pital gains – based on profit made after selling an ass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3200400"/>
            <a:ext cx="2209680" cy="5335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% total sales ta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overnment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c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rpose of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nt on public wor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defen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tection of proper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onomic infrastru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ublic serv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, health care, pensions, energy/water/waste management, public transpor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o Pays Tax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viduals – if a person earns over $ a year, they must pay tax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sinesses – the amount of taxes a business pays depends on the type of business it 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ath and Tax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only things in this life that are guaranteed are death and tax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j0382678" descr=""/>
          <p:cNvPicPr/>
          <p:nvPr/>
        </p:nvPicPr>
        <p:blipFill>
          <a:blip r:embed="rId1"/>
          <a:stretch/>
        </p:blipFill>
        <p:spPr>
          <a:xfrm>
            <a:off x="1066680" y="2373480"/>
            <a:ext cx="3810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justed gross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40 EZ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40 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em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al Income Tax For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12:56Z</dcterms:created>
  <dc:creator>Owner</dc:creator>
  <dc:description/>
  <dc:language>en-US</dc:language>
  <cp:lastModifiedBy>Owner</cp:lastModifiedBy>
  <dcterms:modified xsi:type="dcterms:W3CDTF">2010-04-12T01:11:01Z</dcterms:modified>
  <cp:revision>4</cp:revision>
  <dc:subject/>
  <dc:title>Topic 7.04—Tax Liability</dc:title>
</cp:coreProperties>
</file>