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B0A-279F-4B99-BFF5-29D60328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FB4-CDDE-489F-AA35-04E2F9EF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86B6-8C27-4FAF-B16F-D749BAE0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BAD-9599-4E75-A468-B52CEF9D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B7FE-B0E6-4885-B99C-6941AA54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6355-393C-4E3F-930C-02B4345F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336C-DF6C-47B8-B74F-B37EB0CF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D1E9-5215-4E76-BF5E-E6624579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1887-5327-4C52-9B5A-5BBAA2E7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680C-7EC9-458B-B11F-6506A957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784F-D7AB-4662-AA6C-89404491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34D-8693-4E4B-BD78-A7725332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3343-8414-4596-AF9E-76ECFD08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6704-07D5-4310-9F84-76BD8D47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1C66-EBD1-477C-A127-BE21478C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DC9C-8B6E-46AC-B359-6271EDED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2B55-A36F-466E-864D-F3DCAB9F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940-4F52-4CA7-87D9-E68AB4E0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B24-C710-45BE-8393-2699A194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109-79B5-4A7A-AE84-58DE8FD8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DA5-EAAE-46B6-A5D1-E8FA12B2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DFB-3D1F-46D4-85FE-5B2BCB1A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758-D0F8-4008-90BC-BC57D97C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B58-BC10-438B-AF01-B12536BD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48A1-36A6-4686-AD69-D652AC228CB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EB30-071C-445B-AFFF-2E9D9C3459E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  <a:ea typeface="Arial"/>
              </a:rPr>
              <a:t>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alth Manag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rs. Schroe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-2 For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rms of Income to Repor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x lia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total amount of tax that a person must pa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xpayers pay this through withholdings, estimated tax payments, and payments attached to their yearly tax form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ome – based on amount of income you make per ye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les – based on the amount sol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tnam Co = 5.5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hio = 1.5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perty – real est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cise – gaso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pital gains – based on profit made after selling an ass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3200400"/>
            <a:ext cx="2209680" cy="5335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7% total sales ta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overnment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der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c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urpose of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ent on public wor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litary defen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tection of proper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conomic infrastru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ublic serv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ducation, health care, pensions, energy/water/waste management, public transpor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o Pays Tax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ividuals – if a person earns over $ a year, they must pay tax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sinesses – the amount of taxes a business pays depends on the type of business it i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ath and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only things in this life that are guaranteed are death and tax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j0382678" descr=""/>
          <p:cNvPicPr/>
          <p:nvPr/>
        </p:nvPicPr>
        <p:blipFill>
          <a:blip r:embed="rId1"/>
          <a:stretch/>
        </p:blipFill>
        <p:spPr>
          <a:xfrm>
            <a:off x="1066680" y="2373480"/>
            <a:ext cx="38102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justed gross 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40 EZ fo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40 fo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emp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du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rsonal Income Tax For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3:12:56Z</dcterms:created>
  <dc:creator>Owner</dc:creator>
  <dc:description/>
  <dc:language>en-US</dc:language>
  <cp:lastModifiedBy>Owner</cp:lastModifiedBy>
  <dcterms:modified xsi:type="dcterms:W3CDTF">2010-04-12T01:11:01Z</dcterms:modified>
  <cp:revision>4</cp:revision>
  <dc:subject/>
  <dc:title>Topic 7.04—Tax Liability</dc:title>
</cp:coreProperties>
</file>