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3E3-84B9-45D6-BA26-6D2F311F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ADA-776C-4221-85D3-67F411FA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973-7EF6-438D-BD2C-78932CCF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511-974A-49DE-B522-028724A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3D8B-510A-41CD-944D-B46E06F0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F276-2178-4445-BEF7-0A0F36FE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37BB-B7E5-452D-A622-C77533C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14F-220A-4812-97C3-2CDC85B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AD2A-C428-4912-9EE2-F3A337C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D0A-B4C3-4E7A-82A3-3F6A077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44AA-7480-4FCF-A978-13BC16D3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5BC-CCB0-4D98-A389-CB23CC1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BA28-4279-41E0-B35A-060C6844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E36-1915-443C-9486-67737584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7036-A30D-4F65-AA7E-6328B58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4BEA-F3B8-4803-BBF2-1EA612F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5E58-BBCC-476A-AC85-297EDAF3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C73-A754-4AEE-ABE1-D306DCD2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AB0-BB9F-4390-90E1-295649E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091-C6D7-4CC1-AD8D-715E57B2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039-A8C5-4D25-9D8D-A2C70B0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06A-7330-4EDE-94A2-233C81A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535-020F-43C8-BBFF-737811C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4C4-E851-43B1-B1CC-BAE2617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009-D147-4F35-A1A2-B8683C7D6E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280-8E73-437F-86DA-77F43322E8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Arial"/>
              </a:rPr>
              <a:t>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alth Manag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s. Schroe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-2 For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ms of Income to Repo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 li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otal amount of tax that a person must pa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xpayers pay this through withholdings, estimated tax payments, and payments attached to their yearly tax fo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ome – based on amount of income you make per y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les – based on the amount sol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tnam Co = 5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hio = 1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perty – real e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cise – gaso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ital gains – based on profit made after selling an 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200400"/>
            <a:ext cx="2209680" cy="5335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% total sales t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overnment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rpose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nt on public wor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defe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ction of prope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onomic infra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 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, health care, pensions, energy/water/waste management, public transpor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o Pays Tax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viduals – if a person earns over $ a year, they must pay tax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sinesses – the amount of taxes a business pays depends on the type of business it 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ath and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only things in this life that are guaranteed are death and tax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j0382678" descr=""/>
          <p:cNvPicPr/>
          <p:nvPr/>
        </p:nvPicPr>
        <p:blipFill>
          <a:blip r:embed="rId1"/>
          <a:stretch/>
        </p:blipFill>
        <p:spPr>
          <a:xfrm>
            <a:off x="1066680" y="2373480"/>
            <a:ext cx="3810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EZ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al Income Tax For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12:56Z</dcterms:created>
  <dc:creator>Owner</dc:creator>
  <dc:description/>
  <dc:language>en-US</dc:language>
  <cp:lastModifiedBy>Owner</cp:lastModifiedBy>
  <dcterms:modified xsi:type="dcterms:W3CDTF">2010-04-12T01:11:01Z</dcterms:modified>
  <cp:revision>4</cp:revision>
  <dc:subject/>
  <dc:title>Topic 7.04—Tax Liability</dc:title>
</cp:coreProperties>
</file>