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1E6-77BC-4E37-A269-432E14EF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301-742E-46E0-9F1C-05B89439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903-9CB3-4D2F-B686-8C3BA5C1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8CB-D021-404C-BFC8-6A50B77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9BC-A0E8-4FFC-8D60-B44BABF4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D9E-E29A-460B-9987-8818B64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9BA-4B89-407C-8269-06BAA47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A3C0-48BA-4ED0-AE31-4AA362E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A70-1B12-40C9-8F32-60F70EF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8D5-55C5-40F8-B1BD-3EF4348A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C571-42D8-4EB3-93B5-4CD1482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A52-BC4A-466F-8FAD-49118B25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E8E5-DB13-4DF0-9941-46FEDC5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49B-ABAC-4452-A0DD-60064BA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B9D8-56F5-47C2-98E4-5695F3C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93A-9915-4BFB-8319-FCC2EE65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495F-1082-4FB0-B944-699F08E7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D7D-613B-453E-AF45-A7D455C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AB6-EF3F-44C4-820D-69E0B4D5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960-5AB2-4055-A426-55BEDBB5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23D-C6F3-48B7-8213-DABF9018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280-1CE0-47D4-BEA0-3185F3F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4CE-5B6A-4208-BFD7-E63A832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559-4B61-4ACD-A2B7-B587018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4B54-F644-423C-8114-CB0362A7C1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7B0-03F3-4392-87A1-E9884FEF92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Arial"/>
              </a:rPr>
              <a:t>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Manag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s. Schroe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-2 For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ms of Income to Repo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li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otal amount of tax that a person must pa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xpayers pay this through withholdings, estimated tax payments, and payments attached to their yearly tax fo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me – based on amount of income you make per y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les – based on the amount sol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nam Co = 5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hio = 1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perty – real e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cise – gaso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ital gains – based on profit made after selling an 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200400"/>
            <a:ext cx="220968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% total sales t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overnment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rpose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nt on public wor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def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ction of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nfra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, health care, pensions, energy/water/waste management, public transpor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 Pays Tax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s – if a person earns over $ a year, they must pay ta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es – the amount of taxes a business pays depends on the type of business it 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ath and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nly things in this life that are guaranteed are death and tax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j0382678" descr=""/>
          <p:cNvPicPr/>
          <p:nvPr/>
        </p:nvPicPr>
        <p:blipFill>
          <a:blip r:embed="rId1"/>
          <a:stretch/>
        </p:blipFill>
        <p:spPr>
          <a:xfrm>
            <a:off x="1066680" y="2373480"/>
            <a:ext cx="3810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EZ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al Income Tax For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12:56Z</dcterms:created>
  <dc:creator>Owner</dc:creator>
  <dc:description/>
  <dc:language>en-US</dc:language>
  <cp:lastModifiedBy>Owner</cp:lastModifiedBy>
  <dcterms:modified xsi:type="dcterms:W3CDTF">2010-04-12T01:11:01Z</dcterms:modified>
  <cp:revision>4</cp:revision>
  <dc:subject/>
  <dc:title>Topic 7.04—Tax Liability</dc:title>
</cp:coreProperties>
</file>