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AE83-3AD8-49F0-8AE0-0DD48765F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616F-3494-4949-B267-E910AA4DA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E12C-D578-4A8A-A48E-B88819E7A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E7DD-6130-401F-8A43-54569B6DE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56C74-9FF1-44E5-BB17-41F217EAF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67992-B284-45EA-B931-67E9C9251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3706B-90B6-400C-A530-93B0E6F2F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8722A-4092-49C2-AB46-E7AB7D9AA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FC36F-191B-49BE-A72A-4D13A8460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5E252-10F3-4009-95C7-A3B4A249B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B454A-2A04-4B5C-8F7C-75A93465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1009-96C4-465A-AD5F-927CCE216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C59F4-0FA3-4E87-B7D5-7ECA8481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3E80E-6E18-4D7E-BA07-4C26ECDC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3FE5D-4C33-4771-A3F4-5C0863596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543D6-C2A8-442A-B137-6CC3FAFCE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EC2F3-6EC2-4B1B-A9D0-C50E8D2F3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C260-CDEA-4A2A-B7B7-C4EC75BDD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0A59-5E8F-4FAF-8492-E0F6FA35C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1E97-5F52-454B-8459-EF8867CCD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1EDD-9C8C-45E5-A69A-4D0FD8A4A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D92B-7EF5-4B9F-84CF-95F4F582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D4BE-5F3A-4807-9D4B-EBCB0FFE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1A69-300E-455B-AC69-0A887C12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2280" y="0"/>
            <a:ext cx="8991720" cy="6858000"/>
            <a:chOff x="152280" y="0"/>
            <a:chExt cx="899172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CITBANND" descr=""/>
            <p:cNvPicPr/>
            <p:nvPr/>
          </p:nvPicPr>
          <p:blipFill>
            <a:blip r:embed="rId2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2280" y="1981080"/>
              <a:ext cx="6858000" cy="4876920"/>
            </a:xfrm>
            <a:custGeom>
              <a:avLst/>
              <a:gdLst/>
              <a:ahLst/>
              <a:rect l="l" t="t" r="r" b="b"/>
              <a:pathLst>
                <a:path w="4320" h="3264">
                  <a:moveTo>
                    <a:pt x="0" y="3264"/>
                  </a:moveTo>
                  <a:lnTo>
                    <a:pt x="0" y="0"/>
                  </a:lnTo>
                  <a:lnTo>
                    <a:pt x="4320" y="0"/>
                  </a:lnTo>
                </a:path>
              </a:pathLst>
            </a:cu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652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0336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34144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798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9714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E3592-F2A5-4F81-97A5-712A2D13E52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2895480" cy="6858000"/>
            </a:xfrm>
            <a:custGeom>
              <a:avLst/>
              <a:gdLst/>
              <a:ahLst/>
              <a:rect l="l" t="t" r="r" b="b"/>
              <a:pathLst>
                <a:path w="1824" h="3840">
                  <a:moveTo>
                    <a:pt x="0" y="3840"/>
                  </a:moveTo>
                  <a:lnTo>
                    <a:pt x="0" y="0"/>
                  </a:lnTo>
                  <a:lnTo>
                    <a:pt x="1824" y="0"/>
                  </a:lnTo>
                  <a:cubicBezTo>
                    <a:pt x="74" y="1204"/>
                    <a:pt x="465" y="3655"/>
                    <a:pt x="583" y="3840"/>
                  </a:cubicBezTo>
                  <a:cubicBezTo>
                    <a:pt x="291" y="3840"/>
                    <a:pt x="0" y="3840"/>
                    <a:pt x="0" y="384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" name="CITBANND" descr=""/>
            <p:cNvPicPr/>
            <p:nvPr/>
          </p:nvPicPr>
          <p:blipFill>
            <a:blip r:embed="rId3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81280"/>
              <a:ext cx="5781600" cy="149040"/>
              <a:chOff x="0" y="3581280"/>
              <a:chExt cx="5781600" cy="149040"/>
            </a:xfrm>
          </p:grpSpPr>
          <p:sp>
            <p:nvSpPr>
              <p:cNvPr id="56" name=""/>
              <p:cNvSpPr/>
              <p:nvPr/>
            </p:nvSpPr>
            <p:spPr>
              <a:xfrm>
                <a:off x="0" y="3666960"/>
                <a:ext cx="5781600" cy="1800"/>
              </a:xfrm>
              <a:custGeom>
                <a:avLst/>
                <a:gdLst/>
                <a:ahLst/>
                <a:rect l="l" t="t" r="r" b="b"/>
                <a:pathLst>
                  <a:path w="3642" h="1">
                    <a:moveTo>
                      <a:pt x="0" y="0"/>
                    </a:moveTo>
                    <a:lnTo>
                      <a:pt x="3642" y="0"/>
                    </a:lnTo>
                  </a:path>
                </a:pathLst>
              </a:custGeom>
              <a:noFill/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1523880" y="3581280"/>
                <a:ext cx="2663640" cy="149040"/>
                <a:chOff x="1523880" y="3581280"/>
                <a:chExt cx="2663640" cy="14904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15238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236196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20004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40384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A8370-C6BC-417F-B0F2-25C5D2A0CE4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estheyrefake.net/extremesurgery/jocelynbefore.jp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www.yestheyrefake.net/extremesurgery/jocelyn.gif" TargetMode="External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ollywood Metamorphosi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5238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siness Econom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ct #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1984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344520" y="960480"/>
            <a:ext cx="535788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828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84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1984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344520" y="960480"/>
            <a:ext cx="535788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828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87-2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1988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344520" y="960480"/>
            <a:ext cx="535788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828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88-2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1993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344520" y="960480"/>
            <a:ext cx="535788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828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93-4" descr=""/>
          <p:cNvPicPr/>
          <p:nvPr/>
        </p:nvPicPr>
        <p:blipFill>
          <a:blip r:embed="rId1"/>
          <a:stretch/>
        </p:blipFill>
        <p:spPr>
          <a:xfrm>
            <a:off x="1295280" y="205740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44520" y="960480"/>
            <a:ext cx="535788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828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00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344520" y="960480"/>
            <a:ext cx="535788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828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00-2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2002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1866960" y="22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866960" y="2209680"/>
            <a:ext cx="5411880" cy="2593080"/>
            <a:chOff x="1866960" y="2209680"/>
            <a:chExt cx="5411880" cy="2593080"/>
          </a:xfrm>
        </p:grpSpPr>
        <p:sp>
          <p:nvSpPr>
            <p:cNvPr id="146" name=""/>
            <p:cNvSpPr/>
            <p:nvPr/>
          </p:nvSpPr>
          <p:spPr>
            <a:xfrm>
              <a:off x="1866960" y="2209680"/>
              <a:ext cx="5411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1866960" y="2209680"/>
              <a:ext cx="3263760" cy="2593080"/>
              <a:chOff x="1866960" y="2209680"/>
              <a:chExt cx="3263760" cy="2593080"/>
            </a:xfrm>
          </p:grpSpPr>
          <p:sp>
            <p:nvSpPr>
              <p:cNvPr id="148" name=""/>
              <p:cNvSpPr/>
              <p:nvPr/>
            </p:nvSpPr>
            <p:spPr>
              <a:xfrm>
                <a:off x="1866960" y="2209680"/>
                <a:ext cx="25988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866960" y="2209680"/>
                <a:ext cx="3263760" cy="259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44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50" name="9d_1_sep2002" descr=""/>
          <p:cNvPicPr/>
          <p:nvPr/>
        </p:nvPicPr>
        <p:blipFill>
          <a:blip r:embed="rId1"/>
          <a:stretch/>
        </p:blipFill>
        <p:spPr>
          <a:xfrm>
            <a:off x="1905120" y="2057400"/>
            <a:ext cx="533376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December 2002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866960" y="226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866960" y="2263680"/>
            <a:ext cx="5411880" cy="2286000"/>
            <a:chOff x="1866960" y="2263680"/>
            <a:chExt cx="5411880" cy="2286000"/>
          </a:xfrm>
        </p:grpSpPr>
        <p:sp>
          <p:nvSpPr>
            <p:cNvPr id="154" name=""/>
            <p:cNvSpPr/>
            <p:nvPr/>
          </p:nvSpPr>
          <p:spPr>
            <a:xfrm>
              <a:off x="1866960" y="2263680"/>
              <a:ext cx="5411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66960" y="2263680"/>
              <a:ext cx="541188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4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               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6" name="9o_1_dec2002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570708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December 2002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186696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866960" y="2182680"/>
            <a:ext cx="5411880" cy="2438280"/>
            <a:chOff x="1866960" y="2182680"/>
            <a:chExt cx="5411880" cy="2438280"/>
          </a:xfrm>
        </p:grpSpPr>
        <p:sp>
          <p:nvSpPr>
            <p:cNvPr id="160" name=""/>
            <p:cNvSpPr/>
            <p:nvPr/>
          </p:nvSpPr>
          <p:spPr>
            <a:xfrm>
              <a:off x="1866960" y="2182680"/>
              <a:ext cx="5411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866960" y="2182680"/>
              <a:ext cx="541188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5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2" name="9r_dec2002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55357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What Does This Have To Do With Economics??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ams will research and connect plastic surgery to the economic concept called:  th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aw of Diminishing Retur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ams will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rite a two-page report explaining the law of diminishing returns, how it can be applied to their celebrity, and when and why the law of diminishing returns impacted him/her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00040" y="1998720"/>
            <a:ext cx="8143920" cy="285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hich is better?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Law of Diminishing Retur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Defini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 if one factor of production (number of workers, for example)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creas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hile other factors (machines and workspace, for example) are held constant, the resulting increase in output will level-off after some time and then declin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fter the Research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Each team must apply the law of diminishing returns to a business situ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Each team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creative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 presents the team’s business situation in three-to-five minute informal presentation to the class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ergi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fergie_before_plastic_surgery" descr="Fergie  before Plastic Surgery Rhinoplasty (Nose Job, Nose plastic Surgery)"/>
          <p:cNvPicPr/>
          <p:nvPr/>
        </p:nvPicPr>
        <p:blipFill>
          <a:blip r:embed="rId1"/>
          <a:stretch/>
        </p:blipFill>
        <p:spPr>
          <a:xfrm>
            <a:off x="1270080" y="2057400"/>
            <a:ext cx="3165480" cy="4038480"/>
          </a:xfrm>
          <a:prstGeom prst="rect">
            <a:avLst/>
          </a:prstGeom>
          <a:ln w="0">
            <a:noFill/>
          </a:ln>
        </p:spPr>
      </p:pic>
      <p:pic>
        <p:nvPicPr>
          <p:cNvPr id="108" name="fergie_plastic_surgery" descr="Fergie  after Rhinoplasty (Nose Job, Nose plastic Surgery)"/>
          <p:cNvPicPr/>
          <p:nvPr/>
        </p:nvPicPr>
        <p:blipFill>
          <a:blip r:embed="rId2"/>
          <a:stretch/>
        </p:blipFill>
        <p:spPr>
          <a:xfrm>
            <a:off x="4495680" y="2057400"/>
            <a:ext cx="3165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alle Berr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halleberry_before_plastic_surgery" descr="Halle Berry rhinoplasty (nose job)"/>
          <p:cNvPicPr/>
          <p:nvPr/>
        </p:nvPicPr>
        <p:blipFill>
          <a:blip r:embed="rId1"/>
          <a:stretch/>
        </p:blipFill>
        <p:spPr>
          <a:xfrm>
            <a:off x="1143000" y="2057400"/>
            <a:ext cx="3303720" cy="4267080"/>
          </a:xfrm>
          <a:prstGeom prst="rect">
            <a:avLst/>
          </a:prstGeom>
          <a:ln w="0">
            <a:noFill/>
          </a:ln>
        </p:spPr>
      </p:pic>
      <p:pic>
        <p:nvPicPr>
          <p:cNvPr id="111" name="halleberry_after_plastic_surgery" descr=""/>
          <p:cNvPicPr/>
          <p:nvPr/>
        </p:nvPicPr>
        <p:blipFill>
          <a:blip r:embed="rId2"/>
          <a:stretch/>
        </p:blipFill>
        <p:spPr>
          <a:xfrm>
            <a:off x="4495680" y="2057400"/>
            <a:ext cx="33037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ritney Spear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britney_before_rhinoplasty" descr="Britney Spears nose job (rhinoplasty, nose surgery)"/>
          <p:cNvPicPr/>
          <p:nvPr/>
        </p:nvPicPr>
        <p:blipFill>
          <a:blip r:embed="rId1"/>
          <a:stretch/>
        </p:blipFill>
        <p:spPr>
          <a:xfrm>
            <a:off x="1066680" y="2057400"/>
            <a:ext cx="3273480" cy="4419720"/>
          </a:xfrm>
          <a:prstGeom prst="rect">
            <a:avLst/>
          </a:prstGeom>
          <a:ln w="0">
            <a:noFill/>
          </a:ln>
        </p:spPr>
      </p:pic>
      <p:pic>
        <p:nvPicPr>
          <p:cNvPr id="114" name="britney_after_rhinoplasty" descr="Britney Spears nose job (rhinoplasty, nose surgery)"/>
          <p:cNvPicPr/>
          <p:nvPr/>
        </p:nvPicPr>
        <p:blipFill>
          <a:blip r:embed="rId2"/>
          <a:stretch/>
        </p:blipFill>
        <p:spPr>
          <a:xfrm>
            <a:off x="4419720" y="2057400"/>
            <a:ext cx="33303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shlee Simps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ashlee_simpson_before_nose_job" descr="Ashlee Simpson nose job"/>
          <p:cNvPicPr/>
          <p:nvPr/>
        </p:nvPicPr>
        <p:blipFill>
          <a:blip r:embed="rId1"/>
          <a:stretch/>
        </p:blipFill>
        <p:spPr>
          <a:xfrm>
            <a:off x="1371600" y="2133720"/>
            <a:ext cx="2971800" cy="3989160"/>
          </a:xfrm>
          <a:prstGeom prst="rect">
            <a:avLst/>
          </a:prstGeom>
          <a:ln w="0">
            <a:noFill/>
          </a:ln>
        </p:spPr>
      </p:pic>
      <p:pic>
        <p:nvPicPr>
          <p:cNvPr id="117" name="ashlee_simpson_after_nose_job" descr="Ashlee Simpson plastic surgery"/>
          <p:cNvPicPr/>
          <p:nvPr/>
        </p:nvPicPr>
        <p:blipFill>
          <a:blip r:embed="rId2"/>
          <a:stretch/>
        </p:blipFill>
        <p:spPr>
          <a:xfrm>
            <a:off x="4343400" y="2133720"/>
            <a:ext cx="2971800" cy="39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Kenny Roger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E_KennyRogers" descr="Kenny Rogers"/>
          <p:cNvPicPr/>
          <p:nvPr/>
        </p:nvPicPr>
        <p:blipFill>
          <a:blip r:embed="rId1"/>
          <a:stretch/>
        </p:blipFill>
        <p:spPr>
          <a:xfrm>
            <a:off x="2743200" y="1771560"/>
            <a:ext cx="371484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  <a:ea typeface="Arial"/>
              </a:rPr>
              <a:t>Jocelyn Wildenstei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jocelynbefore_small" descr="jocelynbefore.jpg (12022 bytes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2057400"/>
            <a:ext cx="3882960" cy="4038480"/>
          </a:xfrm>
          <a:prstGeom prst="rect">
            <a:avLst/>
          </a:prstGeom>
          <a:ln w="0">
            <a:noFill/>
          </a:ln>
        </p:spPr>
      </p:pic>
      <p:pic>
        <p:nvPicPr>
          <p:cNvPr id="122" name="jocelyn_small" descr="jocelyn.gif (7848 bytes)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8320" y="2057400"/>
            <a:ext cx="32479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ichael Jacks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jackson-duo" descr=""/>
          <p:cNvPicPr/>
          <p:nvPr/>
        </p:nvPicPr>
        <p:blipFill>
          <a:blip r:embed="rId1"/>
          <a:stretch/>
        </p:blipFill>
        <p:spPr>
          <a:xfrm>
            <a:off x="2438280" y="2514600"/>
            <a:ext cx="381024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6T17:56:50Z</dcterms:created>
  <dc:creator>lp_schroeder</dc:creator>
  <dc:description/>
  <dc:language>en-US</dc:language>
  <cp:lastModifiedBy>lp_schroeder</cp:lastModifiedBy>
  <dcterms:modified xsi:type="dcterms:W3CDTF">2009-04-13T13:01:35Z</dcterms:modified>
  <cp:revision>3</cp:revision>
  <dc:subject/>
  <dc:title>Hollywood Metamorphosis</dc:title>
</cp:coreProperties>
</file>