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8CB-A266-47B7-A508-6E2D141B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4B1-4AF3-42FD-9206-B9B24D65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4F4-FEC3-46E5-B011-E9E91E45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3FF-D74A-4631-92F7-286AE0E7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54BA-6A8D-405C-8786-FAAFBF13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F7C-0C70-4CB9-A3E5-D30B8CB1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79C4-1B88-4498-8DF9-85DB59B0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9186-DB4A-48FD-B6DE-67E54B1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28A1-70EF-4B48-84FC-0A4D99E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E04-0116-4F60-B99B-9612F3F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093-FBE5-4457-8093-CAE6D52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328-C8C3-427C-B77B-5AB71503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91B-E72F-4C5C-A503-6EFD958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DFDE-0552-4457-8F49-2F89AF7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516F-4B9A-42C3-86C3-918A0A83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1FF-C187-48B7-A0A5-E7B2E42C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623-85CA-4852-AB3D-10A7CBB4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007-5DBC-41A1-A56A-2E545CE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535-A735-4149-A1C5-C36728E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3CC-72B2-464E-873C-36D8FA1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FDD-7068-4F2C-B39B-13DBB1C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D9C-977D-449F-902E-69510BC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64C-83C5-4760-9DEB-165D972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AAB-FA66-4FDE-AADC-5ADD954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B569-DE19-42A5-B928-D9E37BCDB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4CE-5408-4FF6-BC95-9D3EAA0F15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estheyrefake.net/extremesurgery/jocelynbefor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yestheyrefake.net/extremesurgery/jocelyn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llywood Metamorpho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8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87-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8-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93-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00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960480"/>
            <a:ext cx="5357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828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0-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66960" y="2209680"/>
            <a:ext cx="5411880" cy="2593080"/>
            <a:chOff x="1866960" y="2209680"/>
            <a:chExt cx="5411880" cy="2593080"/>
          </a:xfrm>
        </p:grpSpPr>
        <p:sp>
          <p:nvSpPr>
            <p:cNvPr id="146" name=""/>
            <p:cNvSpPr/>
            <p:nvPr/>
          </p:nvSpPr>
          <p:spPr>
            <a:xfrm>
              <a:off x="1866960" y="2209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66960" y="2209680"/>
              <a:ext cx="3263760" cy="2593080"/>
              <a:chOff x="1866960" y="2209680"/>
              <a:chExt cx="3263760" cy="259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66960" y="2209680"/>
                <a:ext cx="2598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2209680"/>
                <a:ext cx="3263760" cy="25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9d_1_sep200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669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6960" y="2263680"/>
            <a:ext cx="5411880" cy="2286000"/>
            <a:chOff x="1866960" y="2263680"/>
            <a:chExt cx="5411880" cy="2286000"/>
          </a:xfrm>
        </p:grpSpPr>
        <p:sp>
          <p:nvSpPr>
            <p:cNvPr id="154" name=""/>
            <p:cNvSpPr/>
            <p:nvPr/>
          </p:nvSpPr>
          <p:spPr>
            <a:xfrm>
              <a:off x="1866960" y="2263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66960" y="2263680"/>
              <a:ext cx="5411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9o_1_dec200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07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86696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866960" y="2182680"/>
            <a:ext cx="5411880" cy="2438280"/>
            <a:chOff x="1866960" y="2182680"/>
            <a:chExt cx="5411880" cy="2438280"/>
          </a:xfrm>
        </p:grpSpPr>
        <p:sp>
          <p:nvSpPr>
            <p:cNvPr id="160" name=""/>
            <p:cNvSpPr/>
            <p:nvPr/>
          </p:nvSpPr>
          <p:spPr>
            <a:xfrm>
              <a:off x="1866960" y="2182680"/>
              <a:ext cx="541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6960" y="2182680"/>
              <a:ext cx="54118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9r_dec2002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35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es This Have To Do With Economics??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research and connect plastic surgery to the economic concept called: 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ms wil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rite a two-page report explaining the law of diminishing returns, how it can be applied to their celebrity, and when and why the law of diminishing returns impacted him/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00040" y="1998720"/>
            <a:ext cx="814392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ch is better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if one factor of production (number of workers, for example)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ile other factors (machines and workspace, for example) are held constant, the resulting increase in output will level-off after some time and then dec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ter the Resea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must apply the law of diminishing returns to a business sit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ach tea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ea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presents the team’s business situation in three-to-five minute informal presentation to the clas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ergi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fergie_before_plastic_surgery" descr="Fergie  before Plastic Surgery Rhinoplasty (Nose Job, Nose plastic Surgery)"/>
          <p:cNvPicPr/>
          <p:nvPr/>
        </p:nvPicPr>
        <p:blipFill>
          <a:blip r:embed="rId1"/>
          <a:stretch/>
        </p:blipFill>
        <p:spPr>
          <a:xfrm>
            <a:off x="1270080" y="2057400"/>
            <a:ext cx="316548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fergie_plastic_surgery" descr="Fergie  after Rhinoplasty (Nose Job, Nose plastic Surgery)"/>
          <p:cNvPicPr/>
          <p:nvPr/>
        </p:nvPicPr>
        <p:blipFill>
          <a:blip r:embed="rId2"/>
          <a:stretch/>
        </p:blipFill>
        <p:spPr>
          <a:xfrm>
            <a:off x="4495680" y="2057400"/>
            <a:ext cx="3165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halleberry_before_plastic_surgery" descr="Halle Berry rhinoplasty (nose job)"/>
          <p:cNvPicPr/>
          <p:nvPr/>
        </p:nvPicPr>
        <p:blipFill>
          <a:blip r:embed="rId1"/>
          <a:stretch/>
        </p:blipFill>
        <p:spPr>
          <a:xfrm>
            <a:off x="1143000" y="2057400"/>
            <a:ext cx="3303720" cy="4267080"/>
          </a:xfrm>
          <a:prstGeom prst="rect">
            <a:avLst/>
          </a:prstGeom>
          <a:ln w="0">
            <a:noFill/>
          </a:ln>
        </p:spPr>
      </p:pic>
      <p:pic>
        <p:nvPicPr>
          <p:cNvPr id="111" name="halleberry_after_plastic_surgery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ritney Spea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ritney_before_rhinoplasty" descr="Britney Spears nose job (rhinoplasty, nose surgery)"/>
          <p:cNvPicPr/>
          <p:nvPr/>
        </p:nvPicPr>
        <p:blipFill>
          <a:blip r:embed="rId1"/>
          <a:stretch/>
        </p:blipFill>
        <p:spPr>
          <a:xfrm>
            <a:off x="1066680" y="2057400"/>
            <a:ext cx="327348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britney_after_rhinoplasty" descr="Britney Spears nose job (rhinoplasty, nose surgery)"/>
          <p:cNvPicPr/>
          <p:nvPr/>
        </p:nvPicPr>
        <p:blipFill>
          <a:blip r:embed="rId2"/>
          <a:stretch/>
        </p:blipFill>
        <p:spPr>
          <a:xfrm>
            <a:off x="4419720" y="2057400"/>
            <a:ext cx="33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hlee Simp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ashlee_simpson_before_nose_job" descr="Ashlee Simpson nose job"/>
          <p:cNvPicPr/>
          <p:nvPr/>
        </p:nvPicPr>
        <p:blipFill>
          <a:blip r:embed="rId1"/>
          <a:stretch/>
        </p:blipFill>
        <p:spPr>
          <a:xfrm>
            <a:off x="1371600" y="2133720"/>
            <a:ext cx="2971800" cy="3989160"/>
          </a:xfrm>
          <a:prstGeom prst="rect">
            <a:avLst/>
          </a:prstGeom>
          <a:ln w="0">
            <a:noFill/>
          </a:ln>
        </p:spPr>
      </p:pic>
      <p:pic>
        <p:nvPicPr>
          <p:cNvPr id="117" name="ashlee_simpson_after_nose_job" descr="Ashlee Simpson plastic surgery"/>
          <p:cNvPicPr/>
          <p:nvPr/>
        </p:nvPicPr>
        <p:blipFill>
          <a:blip r:embed="rId2"/>
          <a:stretch/>
        </p:blipFill>
        <p:spPr>
          <a:xfrm>
            <a:off x="4343400" y="2133720"/>
            <a:ext cx="2971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enny Rog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E_KennyRogers" descr="Kenny Rogers"/>
          <p:cNvPicPr/>
          <p:nvPr/>
        </p:nvPicPr>
        <p:blipFill>
          <a:blip r:embed="rId1"/>
          <a:stretch/>
        </p:blipFill>
        <p:spPr>
          <a:xfrm>
            <a:off x="2743200" y="1771560"/>
            <a:ext cx="3714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Arial"/>
              </a:rPr>
              <a:t>Jocelyn Wildenste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jocelynbefore_small" descr="jocelynbefore.jpg (12022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8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22" name="jocelyn_small" descr="jocelyn.gif (7848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057400"/>
            <a:ext cx="32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ichael Jacks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jackson-duo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56:50Z</dcterms:created>
  <dc:creator>lp_schroeder</dc:creator>
  <dc:description/>
  <dc:language>en-US</dc:language>
  <cp:lastModifiedBy>lp_schroeder</cp:lastModifiedBy>
  <dcterms:modified xsi:type="dcterms:W3CDTF">2009-04-13T13:01:35Z</dcterms:modified>
  <cp:revision>3</cp:revision>
  <dc:subject/>
  <dc:title>Hollywood Metamorphosis</dc:title>
</cp:coreProperties>
</file>