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C12-5AB8-4485-947E-E9F3D005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0D98-4BE9-408D-9F99-43632DFD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7FF-7F0B-4C7F-B29E-A7A50AFA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4F5A-EDF3-4DA8-A240-54FD41F7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E9CD-2EA8-4BD8-8E96-151548D1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4DFF-A99F-4700-AF88-38AAF3D2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0511-D35D-47D4-B836-58C8EFE6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F2E2-DA98-4F21-80AF-D7C43707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B2C4-B56A-4C3D-9EDE-36D6737C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E940-F0AA-4926-A9D5-5B705A6E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8F6C-787A-4ED7-8F72-6F35AB68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562-77C8-47BF-8F43-42633D36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17C3-1E55-4D44-9B55-754B8995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DA26-D4DA-48C8-BE9F-6285CF80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E5DD-8A37-4F13-8BFC-EFBE88D4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A9FE-10D0-46E1-A34B-DE454421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FAA2-49D0-49DE-AE02-30D869CE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8CA-C779-43F3-96DF-22D07972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438-1BF5-41CA-A1A2-22CED758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5D09-32F4-4DF7-A680-0970B7C2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F98-B416-439A-9809-EBBF2C4F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F9B-DAB4-4E29-9D4C-E1AD786C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A2F2-D24B-4E23-8662-ADB65608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590-E872-4E49-8097-EB5F766D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D751-D5D9-4631-9CE1-1C334BE54D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8358-84C6-4326-BDBB-555EDACE1E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estheyrefake.net/extremesurgery/jocelynbefore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yestheyrefake.net/extremesurgery/jocelyn.gif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ollywood Metamorpho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iness Econom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#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98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84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98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87-2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988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88-2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93-4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00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00-2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86696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866960" y="2209680"/>
            <a:ext cx="5411880" cy="2593080"/>
            <a:chOff x="1866960" y="2209680"/>
            <a:chExt cx="5411880" cy="2593080"/>
          </a:xfrm>
        </p:grpSpPr>
        <p:sp>
          <p:nvSpPr>
            <p:cNvPr id="146" name=""/>
            <p:cNvSpPr/>
            <p:nvPr/>
          </p:nvSpPr>
          <p:spPr>
            <a:xfrm>
              <a:off x="1866960" y="2209680"/>
              <a:ext cx="5411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66960" y="2209680"/>
              <a:ext cx="3263760" cy="2593080"/>
              <a:chOff x="1866960" y="2209680"/>
              <a:chExt cx="3263760" cy="25930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66960" y="2209680"/>
                <a:ext cx="25988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66960" y="2209680"/>
                <a:ext cx="3263760" cy="259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0" name="9d_1_sep2002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333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cember 200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86696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866960" y="2263680"/>
            <a:ext cx="5411880" cy="2286000"/>
            <a:chOff x="1866960" y="2263680"/>
            <a:chExt cx="5411880" cy="2286000"/>
          </a:xfrm>
        </p:grpSpPr>
        <p:sp>
          <p:nvSpPr>
            <p:cNvPr id="154" name=""/>
            <p:cNvSpPr/>
            <p:nvPr/>
          </p:nvSpPr>
          <p:spPr>
            <a:xfrm>
              <a:off x="1866960" y="2263680"/>
              <a:ext cx="5411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66960" y="2263680"/>
              <a:ext cx="54118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9o_1_dec2002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07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cember 200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86696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866960" y="2182680"/>
            <a:ext cx="5411880" cy="2438280"/>
            <a:chOff x="1866960" y="2182680"/>
            <a:chExt cx="5411880" cy="2438280"/>
          </a:xfrm>
        </p:grpSpPr>
        <p:sp>
          <p:nvSpPr>
            <p:cNvPr id="160" name=""/>
            <p:cNvSpPr/>
            <p:nvPr/>
          </p:nvSpPr>
          <p:spPr>
            <a:xfrm>
              <a:off x="1866960" y="2182680"/>
              <a:ext cx="5411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66960" y="2182680"/>
              <a:ext cx="541188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2" name="9r_dec2002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535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at Does This Have To Do With Economics??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ms will research and connect plastic surgery to the economic concept called: 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w of Diminishing Retur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ms wil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rite a two-page report explaining the law of diminishing returns, how it can be applied to their celebrity, and when and why the law of diminishing returns impacted him/he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00040" y="1998720"/>
            <a:ext cx="8143920" cy="28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ich is better?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w of Diminishing Retur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efini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if one factor of production (number of workers, for example)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creas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ile other factors (machines and workspace, for example) are held constant, the resulting increase in output will level-off after some time and then dec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fter the Researc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Each team must apply the law of diminishing returns to a business situ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Each tea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creative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presents the team’s business situation in three-to-five minute informal presentation to the clas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ergi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fergie_before_plastic_surgery" descr="Fergie  before Plastic Surgery Rhinoplasty (Nose Job, Nose plastic Surgery)"/>
          <p:cNvPicPr/>
          <p:nvPr/>
        </p:nvPicPr>
        <p:blipFill>
          <a:blip r:embed="rId1"/>
          <a:stretch/>
        </p:blipFill>
        <p:spPr>
          <a:xfrm>
            <a:off x="1270080" y="2057400"/>
            <a:ext cx="3165480" cy="4038480"/>
          </a:xfrm>
          <a:prstGeom prst="rect">
            <a:avLst/>
          </a:prstGeom>
          <a:ln w="0">
            <a:noFill/>
          </a:ln>
        </p:spPr>
      </p:pic>
      <p:pic>
        <p:nvPicPr>
          <p:cNvPr id="108" name="fergie_plastic_surgery" descr="Fergie  after Rhinoplasty (Nose Job, Nose plastic Surgery)"/>
          <p:cNvPicPr/>
          <p:nvPr/>
        </p:nvPicPr>
        <p:blipFill>
          <a:blip r:embed="rId2"/>
          <a:stretch/>
        </p:blipFill>
        <p:spPr>
          <a:xfrm>
            <a:off x="4495680" y="2057400"/>
            <a:ext cx="3165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alle Ber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halleberry_before_plastic_surgery" descr="Halle Berry rhinoplasty (nose job)"/>
          <p:cNvPicPr/>
          <p:nvPr/>
        </p:nvPicPr>
        <p:blipFill>
          <a:blip r:embed="rId1"/>
          <a:stretch/>
        </p:blipFill>
        <p:spPr>
          <a:xfrm>
            <a:off x="1143000" y="2057400"/>
            <a:ext cx="3303720" cy="4267080"/>
          </a:xfrm>
          <a:prstGeom prst="rect">
            <a:avLst/>
          </a:prstGeom>
          <a:ln w="0">
            <a:noFill/>
          </a:ln>
        </p:spPr>
      </p:pic>
      <p:pic>
        <p:nvPicPr>
          <p:cNvPr id="111" name="halleberry_after_plastic_surgery" descr=""/>
          <p:cNvPicPr/>
          <p:nvPr/>
        </p:nvPicPr>
        <p:blipFill>
          <a:blip r:embed="rId2"/>
          <a:stretch/>
        </p:blipFill>
        <p:spPr>
          <a:xfrm>
            <a:off x="4495680" y="2057400"/>
            <a:ext cx="3303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ritney Spea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britney_before_rhinoplasty" descr="Britney Spears nose job (rhinoplasty, nose surgery)"/>
          <p:cNvPicPr/>
          <p:nvPr/>
        </p:nvPicPr>
        <p:blipFill>
          <a:blip r:embed="rId1"/>
          <a:stretch/>
        </p:blipFill>
        <p:spPr>
          <a:xfrm>
            <a:off x="1066680" y="2057400"/>
            <a:ext cx="3273480" cy="4419720"/>
          </a:xfrm>
          <a:prstGeom prst="rect">
            <a:avLst/>
          </a:prstGeom>
          <a:ln w="0">
            <a:noFill/>
          </a:ln>
        </p:spPr>
      </p:pic>
      <p:pic>
        <p:nvPicPr>
          <p:cNvPr id="114" name="britney_after_rhinoplasty" descr="Britney Spears nose job (rhinoplasty, nose surgery)"/>
          <p:cNvPicPr/>
          <p:nvPr/>
        </p:nvPicPr>
        <p:blipFill>
          <a:blip r:embed="rId2"/>
          <a:stretch/>
        </p:blipFill>
        <p:spPr>
          <a:xfrm>
            <a:off x="4419720" y="2057400"/>
            <a:ext cx="333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shlee Simps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ashlee_simpson_before_nose_job" descr="Ashlee Simpson nose job"/>
          <p:cNvPicPr/>
          <p:nvPr/>
        </p:nvPicPr>
        <p:blipFill>
          <a:blip r:embed="rId1"/>
          <a:stretch/>
        </p:blipFill>
        <p:spPr>
          <a:xfrm>
            <a:off x="1371600" y="2133720"/>
            <a:ext cx="2971800" cy="3989160"/>
          </a:xfrm>
          <a:prstGeom prst="rect">
            <a:avLst/>
          </a:prstGeom>
          <a:ln w="0">
            <a:noFill/>
          </a:ln>
        </p:spPr>
      </p:pic>
      <p:pic>
        <p:nvPicPr>
          <p:cNvPr id="117" name="ashlee_simpson_after_nose_job" descr="Ashlee Simpson plastic surgery"/>
          <p:cNvPicPr/>
          <p:nvPr/>
        </p:nvPicPr>
        <p:blipFill>
          <a:blip r:embed="rId2"/>
          <a:stretch/>
        </p:blipFill>
        <p:spPr>
          <a:xfrm>
            <a:off x="4343400" y="2133720"/>
            <a:ext cx="29718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Kenny Roge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E_KennyRogers" descr="Kenny Rogers"/>
          <p:cNvPicPr/>
          <p:nvPr/>
        </p:nvPicPr>
        <p:blipFill>
          <a:blip r:embed="rId1"/>
          <a:stretch/>
        </p:blipFill>
        <p:spPr>
          <a:xfrm>
            <a:off x="2743200" y="1771560"/>
            <a:ext cx="37148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Arial"/>
              </a:rPr>
              <a:t>Jocelyn Wildenstei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jocelynbefore_small" descr="jocelynbefore.jpg (12022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057400"/>
            <a:ext cx="3882960" cy="4038480"/>
          </a:xfrm>
          <a:prstGeom prst="rect">
            <a:avLst/>
          </a:prstGeom>
          <a:ln w="0">
            <a:noFill/>
          </a:ln>
        </p:spPr>
      </p:pic>
      <p:pic>
        <p:nvPicPr>
          <p:cNvPr id="122" name="jocelyn_small" descr="jocelyn.gif (7848 bytes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2057400"/>
            <a:ext cx="324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ichael Jacks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jackson-duo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38102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7:56:50Z</dcterms:created>
  <dc:creator>lp_schroeder</dc:creator>
  <dc:description/>
  <dc:language>en-US</dc:language>
  <cp:lastModifiedBy>lp_schroeder</cp:lastModifiedBy>
  <dcterms:modified xsi:type="dcterms:W3CDTF">2009-04-13T13:01:35Z</dcterms:modified>
  <cp:revision>3</cp:revision>
  <dc:subject/>
  <dc:title>Hollywood Metamorphosis</dc:title>
</cp:coreProperties>
</file>