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958-F7BA-45B6-8C5C-C11FDD04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3E6-4813-4691-8AF2-CC185EC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B5C-5F7B-47FC-B08B-1CD7AA3D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066-9FE6-40E4-A3CE-551BFF7B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20C-EE8B-4EBB-96F0-E596C78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DF15-7F20-4CD6-AF1F-9C300FF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86C5-BC75-4937-8270-8D17F53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09A-6AB0-4D03-B38B-2E7339E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FE6-531E-4116-B725-C08950F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6FD7-8788-4DB2-90F9-AB7C43A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5F0-B6F6-49F6-9ACF-86F0995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EB1-65A5-4EF5-9DFA-386CBE2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D22-9E7E-413F-A412-2D0FCAF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DC1E-BCE2-43BF-A95B-60563B6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17F-A5DC-4C0F-B069-8DFB9D1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A4F8-A616-4636-97F7-5E14B256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BB7E-488A-4AE6-B1B6-3D973453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755-AFC0-42F7-890C-B0B96F8A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F5D-7D94-48BD-9683-8233476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B81-28D1-4C35-9177-97212DE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35F-1127-46A1-A6D9-D290E87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A2B-C68A-4606-B811-021EF9C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E69-74BA-42CA-9BEC-1E09974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6D0-ED26-4194-8555-807F0E5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77A-6DA1-437D-B4F7-105212729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B87-1667-4BAE-95EC-2750FE2096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estheyrefake.net/extremesurgery/jocelynbefor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yestheyrefake.net/extremesurgery/jocelyn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llywood Metamorpho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8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7-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8-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93-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00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-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66960" y="2209680"/>
            <a:ext cx="5411880" cy="2593080"/>
            <a:chOff x="1866960" y="2209680"/>
            <a:chExt cx="5411880" cy="2593080"/>
          </a:xfrm>
        </p:grpSpPr>
        <p:sp>
          <p:nvSpPr>
            <p:cNvPr id="146" name=""/>
            <p:cNvSpPr/>
            <p:nvPr/>
          </p:nvSpPr>
          <p:spPr>
            <a:xfrm>
              <a:off x="1866960" y="2209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66960" y="2209680"/>
              <a:ext cx="3263760" cy="2593080"/>
              <a:chOff x="1866960" y="2209680"/>
              <a:chExt cx="3263760" cy="259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6960" y="2209680"/>
                <a:ext cx="2598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2209680"/>
                <a:ext cx="3263760" cy="25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9d_1_sep200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6960" y="2263680"/>
            <a:ext cx="5411880" cy="2286000"/>
            <a:chOff x="1866960" y="2263680"/>
            <a:chExt cx="5411880" cy="2286000"/>
          </a:xfrm>
        </p:grpSpPr>
        <p:sp>
          <p:nvSpPr>
            <p:cNvPr id="154" name=""/>
            <p:cNvSpPr/>
            <p:nvPr/>
          </p:nvSpPr>
          <p:spPr>
            <a:xfrm>
              <a:off x="1866960" y="2263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6960" y="2263680"/>
              <a:ext cx="5411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9o_1_dec200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0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866960" y="2182680"/>
            <a:ext cx="5411880" cy="2438280"/>
            <a:chOff x="1866960" y="2182680"/>
            <a:chExt cx="5411880" cy="2438280"/>
          </a:xfrm>
        </p:grpSpPr>
        <p:sp>
          <p:nvSpPr>
            <p:cNvPr id="160" name=""/>
            <p:cNvSpPr/>
            <p:nvPr/>
          </p:nvSpPr>
          <p:spPr>
            <a:xfrm>
              <a:off x="1866960" y="2182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6960" y="2182680"/>
              <a:ext cx="54118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9r_dec2002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35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es This Have To Do With Economics??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research and connect plastic surgery to the economic concept called: 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rite a two-page report explaining the law of diminishing returns, how it can be applied to their celebrity, and when and why the law of diminishing returns impacted him/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00040" y="1998720"/>
            <a:ext cx="814392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ch is better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if one factor of production (number of workers, for example)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le other factors (machines and workspace, for example) are held constant, the resulting increase in output will level-off after some time and then dec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 the Resea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must apply the law of diminishing returns to a business sit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ea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presents the team’s business situation in three-to-five minute informal presentation to the clas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ergi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fergie_before_plastic_surgery" descr="Fergie  before Plastic Surgery Rhinoplasty (Nose Job, Nose plastic Surgery)"/>
          <p:cNvPicPr/>
          <p:nvPr/>
        </p:nvPicPr>
        <p:blipFill>
          <a:blip r:embed="rId1"/>
          <a:stretch/>
        </p:blipFill>
        <p:spPr>
          <a:xfrm>
            <a:off x="1270080" y="2057400"/>
            <a:ext cx="316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fergie_plastic_surgery" descr="Fergie  after Rhinoplasty (Nose Job, Nose plastic Surgery)"/>
          <p:cNvPicPr/>
          <p:nvPr/>
        </p:nvPicPr>
        <p:blipFill>
          <a:blip r:embed="rId2"/>
          <a:stretch/>
        </p:blipFill>
        <p:spPr>
          <a:xfrm>
            <a:off x="4495680" y="2057400"/>
            <a:ext cx="3165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halleberry_before_plastic_surgery" descr="Halle Berry rhinoplasty (nose job)"/>
          <p:cNvPicPr/>
          <p:nvPr/>
        </p:nvPicPr>
        <p:blipFill>
          <a:blip r:embed="rId1"/>
          <a:stretch/>
        </p:blipFill>
        <p:spPr>
          <a:xfrm>
            <a:off x="1143000" y="2057400"/>
            <a:ext cx="3303720" cy="4267080"/>
          </a:xfrm>
          <a:prstGeom prst="rect">
            <a:avLst/>
          </a:prstGeom>
          <a:ln w="0">
            <a:noFill/>
          </a:ln>
        </p:spPr>
      </p:pic>
      <p:pic>
        <p:nvPicPr>
          <p:cNvPr id="111" name="halleberry_after_plastic_surgery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tney Spea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ritney_before_rhinoplasty" descr="Britney Spears nose job (rhinoplasty, nose surgery)"/>
          <p:cNvPicPr/>
          <p:nvPr/>
        </p:nvPicPr>
        <p:blipFill>
          <a:blip r:embed="rId1"/>
          <a:stretch/>
        </p:blipFill>
        <p:spPr>
          <a:xfrm>
            <a:off x="1066680" y="2057400"/>
            <a:ext cx="327348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britney_after_rhinoplasty" descr="Britney Spears nose job (rhinoplasty, nose surgery)"/>
          <p:cNvPicPr/>
          <p:nvPr/>
        </p:nvPicPr>
        <p:blipFill>
          <a:blip r:embed="rId2"/>
          <a:stretch/>
        </p:blipFill>
        <p:spPr>
          <a:xfrm>
            <a:off x="4419720" y="2057400"/>
            <a:ext cx="33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hlee Simp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ashlee_simpson_before_nose_job" descr="Ashlee Simpson nose job"/>
          <p:cNvPicPr/>
          <p:nvPr/>
        </p:nvPicPr>
        <p:blipFill>
          <a:blip r:embed="rId1"/>
          <a:stretch/>
        </p:blipFill>
        <p:spPr>
          <a:xfrm>
            <a:off x="1371600" y="2133720"/>
            <a:ext cx="2971800" cy="3989160"/>
          </a:xfrm>
          <a:prstGeom prst="rect">
            <a:avLst/>
          </a:prstGeom>
          <a:ln w="0">
            <a:noFill/>
          </a:ln>
        </p:spPr>
      </p:pic>
      <p:pic>
        <p:nvPicPr>
          <p:cNvPr id="117" name="ashlee_simpson_after_nose_job" descr="Ashlee Simpson plastic surgery"/>
          <p:cNvPicPr/>
          <p:nvPr/>
        </p:nvPicPr>
        <p:blipFill>
          <a:blip r:embed="rId2"/>
          <a:stretch/>
        </p:blipFill>
        <p:spPr>
          <a:xfrm>
            <a:off x="4343400" y="2133720"/>
            <a:ext cx="2971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nny Rog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E_KennyRogers" descr="Kenny Rogers"/>
          <p:cNvPicPr/>
          <p:nvPr/>
        </p:nvPicPr>
        <p:blipFill>
          <a:blip r:embed="rId1"/>
          <a:stretch/>
        </p:blipFill>
        <p:spPr>
          <a:xfrm>
            <a:off x="2743200" y="1771560"/>
            <a:ext cx="3714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Arial"/>
              </a:rPr>
              <a:t>Jocelyn Wildenste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jocelynbefore_small" descr="jocelynbefore.jpg (1202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8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22" name="jocelyn_small" descr="jocelyn.gif (7848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057400"/>
            <a:ext cx="32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ichael Jack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jackson-duo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56:50Z</dcterms:created>
  <dc:creator>lp_schroeder</dc:creator>
  <dc:description/>
  <dc:language>en-US</dc:language>
  <cp:lastModifiedBy>lp_schroeder</cp:lastModifiedBy>
  <dcterms:modified xsi:type="dcterms:W3CDTF">2009-04-13T13:01:35Z</dcterms:modified>
  <cp:revision>3</cp:revision>
  <dc:subject/>
  <dc:title>Hollywood Metamorphosis</dc:title>
</cp:coreProperties>
</file>