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35FFB-69C9-41BC-89E1-C100E34F4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7B8B-3C6E-4998-B349-FE2F83AA2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11C25-7A57-427D-AA33-1CEAAA295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C4593-E572-42C8-8AC2-E980B8B4C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E7928-B42C-41AD-8227-546D211DA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9854A-871B-4905-9E1F-AAF390D6E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2BD86-2656-44F4-B03B-4E3D5971A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2749A-CAA0-445A-ABFE-DCE622C04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F19C9-18A6-43A1-A953-21D1A6146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4CD33-05E8-4B31-A6D3-E75C92F21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4CEFA-E578-47B1-B293-53ED0B1C8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18A8B-221C-49D9-B80B-B4BAFE417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EFCD5-EBD1-4864-A7A7-5F8DEA392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B510D-D2A4-4814-82EB-DE2D2C490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7D9B3-4D81-4D3E-BC9E-09216F625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D393A-F051-494F-8839-788ED7AF4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02A74-4DCE-4185-9344-E1F67C127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A2212-1D93-4D9F-8010-1A30F703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7C851-731F-4373-A6D3-594400021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9B04B-8B24-4AE3-BB05-D93B92D4E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ACE45-56A5-40E9-8B44-F9C00599B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0C3FF-4A06-4143-B7B1-0744470B0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EC4C7-5BE9-453D-8D56-39DA35BC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55CE2-36C3-480D-ABFB-7A202E1CB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2A25-0D00-47AB-BE43-C39F593288E3}"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2579-F597-404E-95E3-35555EF8D9BD}"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ject #4 – China Dynasty</a:t>
            </a:r>
            <a:endParaRPr b="1" i="1" lang="en-US" sz="4400" spc="-1" strike="noStrike">
              <a:solidFill>
                <a:srgbClr val="795241"/>
              </a:solidFill>
              <a:latin typeface="Times New Roman"/>
            </a:endParaRPr>
          </a:p>
        </p:txBody>
      </p:sp>
      <p:sp>
        <p:nvSpPr>
          <p:cNvPr id="83" name="PlaceHolder 2"/>
          <p:cNvSpPr>
            <a:spLocks noGrp="1"/>
          </p:cNvSpPr>
          <p:nvPr>
            <p:ph type="subTitle"/>
          </p:nvPr>
        </p:nvSpPr>
        <p:spPr>
          <a:xfrm>
            <a:off x="9144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Business Economics</a:t>
            </a:r>
            <a:endParaRPr b="0" lang="en-US" sz="3200" spc="-1" strike="noStrike">
              <a:solidFill>
                <a:srgbClr val="463634"/>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rs. Schroeder</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Project Description</a:t>
            </a:r>
            <a:endParaRPr b="1" i="1" lang="en-US" sz="4400" spc="-1" strike="noStrike">
              <a:solidFill>
                <a:srgbClr val="795241"/>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ou will conduct secondary research to develop a written report comparing the production of goods in the U.S. to the production of goods in China.</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eam of students will be given a stuffed animal and assigned the task of determining where they want to produce that item—in China or in the U.S. To make their decision, each team will need to consider a number of factors, including how to produce the stuffed animal, what issues or risks might arise in production, and how to deal with those issues and risks.</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considering these factors, each team will develop and use a decision matrix to select where to produce its stuffed animal and then present an oral report explaining where the team chose to produce the item, what risks are involved in making the stuffed animal in the selected location, and how the team would deal with these risks.</a:t>
            </a:r>
            <a:r>
              <a:rPr b="0" lang="en-US" sz="2000" spc="-1" strike="noStrike">
                <a:solidFill>
                  <a:srgbClr val="463634"/>
                </a:solidFill>
                <a:latin typeface="Times New Roman"/>
              </a:rPr>
              <a:t> </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riving Question</a:t>
            </a:r>
            <a:endParaRPr b="1" i="1" lang="en-US" sz="4400" spc="-1" strike="noStrike">
              <a:solidFill>
                <a:srgbClr val="795241"/>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ould you do business in China?</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Individual Written Report</a:t>
            </a:r>
            <a:endParaRPr b="1" i="1" lang="en-US" sz="4400" spc="-1" strike="noStrike">
              <a:solidFill>
                <a:srgbClr val="795241"/>
              </a:solidFill>
              <a:latin typeface="Times New Roman"/>
            </a:endParaRPr>
          </a:p>
        </p:txBody>
      </p:sp>
      <p:sp>
        <p:nvSpPr>
          <p:cNvPr id="8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Each student individually conducts secondary research and develops a four-page written report covering the following concepts that compare the production of goods in the U.S. to the production of goods in China:</a:t>
            </a:r>
            <a:endParaRPr b="0" lang="en-US" sz="20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Comparison of China and U.S. workforces (size, education, income, union vs. nonunionized, trends in productivity,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Reasons U.S. companies have goods produced in China and reasons China chooses to produce goods for U.S. companie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U.S. companies get goods produced in China (import/export from other companies, wholly owned subsidiaries,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off shoring impacts the domestic econom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problems U.S. companies encounter with goods produced in China</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quality issues with goods produced in China could be addressed</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Group Discussion and Research</a:t>
            </a:r>
            <a:endParaRPr b="1" i="1" lang="en-US" sz="4400" spc="-1" strike="noStrike">
              <a:solidFill>
                <a:srgbClr val="795241"/>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To make an educated decision about where produce the team’s stuffed animal, each team needs to answer the following questions:</a:t>
            </a:r>
            <a:r>
              <a:rPr b="0" lang="en-US" sz="2000" spc="-1" strike="noStrike">
                <a:solidFill>
                  <a:srgbClr val="463634"/>
                </a:solidFill>
                <a:latin typeface="Times New Roman"/>
              </a:rPr>
              <a:t> </a:t>
            </a:r>
            <a:endParaRPr b="0" lang="en-US" sz="20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y does it cost less to produce the stuffed animal in China and transport it to the U.S. versus producing it domesticall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will the team get their stuffed animal produced and on the shelves in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issues/risks might arise when doing business in China versus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are some ways to overcome those issues/risk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criteria should the team use in its decision matrix to decide where to produce the stuffed animal?</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ecision Matrix</a:t>
            </a:r>
            <a:endParaRPr b="1" i="1" lang="en-US" sz="4400" spc="-1" strike="noStrike">
              <a:solidFill>
                <a:srgbClr val="795241"/>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After completing team research and answering the questions listed above, each team develops and uses a decision matrix to determine where to produce its stuffed animal.</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Oral Presentations</a:t>
            </a:r>
            <a:endParaRPr b="1"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Each team delivers a 5-10-minute presentation identifying where they decided to produce their stuffed animal, the rationale for their decision, the risks involved in making the product in the selected location, and how they would deal with these risks.</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Test</a:t>
            </a:r>
            <a:endParaRPr b="1"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6:26:39Z</dcterms:created>
  <dc:creator>lp_schroeder</dc:creator>
  <dc:description/>
  <dc:language>en-US</dc:language>
  <cp:lastModifiedBy>lp_schroeder</cp:lastModifiedBy>
  <dcterms:modified xsi:type="dcterms:W3CDTF">2010-03-09T16:38:06Z</dcterms:modified>
  <cp:revision>1</cp:revision>
  <dc:subject/>
  <dc:title>Project #4 – China Dynasty</dc:title>
</cp:coreProperties>
</file>