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C4DFB-9672-48DC-9892-AC6F429A5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71D0-1CB0-42A6-8745-C6B709C4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DEEFD-DDAF-4848-BC50-A023546D3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05C8D-5330-4307-BB28-C95B2CDB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5DCEE-1250-4AD5-A0D2-2CF4BE89E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A146B-0739-433B-BEF8-319B6DEE3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A0046-B36D-448F-8590-FE2EA20A1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D0EBA-475E-4C0C-9E59-59D2BD5B3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05ADA-8140-4192-99D3-873408465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50980-A8B4-475E-B476-5C1D80662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65C6-09AE-40FD-B913-0033AE7F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83AD-FD24-4AD3-AF31-E41511CD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A029-C758-436A-9C4B-AA5E5B88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BB91-6C87-4C36-842F-8FC971A6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8678D-DBBB-41AD-B6EB-F5841CEEE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EEC92-EFCE-44F4-9969-F39FBABD4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D02BE-06E4-43DA-802F-E040C51A0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518F-4A67-426E-B254-AE6CC530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F824-B8FD-4018-B4A3-76A07E4E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5E38-A7A8-4EF1-BE59-E02E105B5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8332F-FFC8-4B8F-8369-074BD684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84B5-326D-4E21-A26F-0EDC1579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2526-FA3C-4F38-B2DC-4F26DE3B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70F7-4231-45EC-B395-4CAA856FE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FA59-A0A3-456D-B483-FA85406FB2D5}"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B745-CCD1-41A7-8211-DDEEC6BB1155}"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4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09T16:38:06Z</dcterms:modified>
  <cp:revision>1</cp:revision>
  <dc:subject/>
  <dc:title>Project #4 – China Dynasty</dc:title>
</cp:coreProperties>
</file>