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32A-AFBD-44DF-9DC4-82B04EEC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E16-A077-4B8E-8C0F-792C79D6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611-F1D8-4D25-A2C1-BFF33387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E45-32B5-4DB4-80D1-864E9F19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1C6A-0CA9-4076-9EF8-AF51925F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621F-7565-4E66-B428-940B609F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A4E0-3709-45DF-8695-1D034CE2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6CF8-6017-4B0F-AC94-89E86041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61CF-1A95-4583-BCB4-6DAF7626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59B9-39E6-44BE-A927-0F44B82F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3A45-12FE-46F8-9F09-7BC58D62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F16-AEAC-4F3B-87F3-B42EAABC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7862-B2F5-4221-9E4B-B95C722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21BA-9377-44A5-B04A-13A7D27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2E56-0C89-4AE2-B2A6-F40B8987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4E0D-C2BC-4863-8C92-9233A279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26CC-3B22-4C05-B78C-B471535F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F0B-93B4-48F5-80C5-DECB45A2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180-5D7E-420E-8F05-DF5CA01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7F1-4F96-4778-AC6F-80E42964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CA7-15D1-40A0-A53F-17915518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DB4-DAC8-483F-B189-8F4D9ABE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DE0-19C6-4E5A-B44E-CA366980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00C-C873-4286-9F59-F2EC34CD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5072-1433-4EA9-A837-C08AC30EB75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1613-B1B5-498E-BA54-120D08D51E1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oductivity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usiness Economic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rs. Schroed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Specialization / Division of lab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Specializat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making the best use of the resources availabl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Division of labo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each worker specializes in a limited number of activities that are a part of the larger production proces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ncreased capital invest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vote a portion of profits to purchase updated equipment; reinvestment in compan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Mass p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production of a few products but in large quantiti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creases productivity because it reduces wasted time, energy, and resour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Research and develop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y determining better processes, refining or simplifying existing products or developing new products, researcher make the production process more effici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Working within government regu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f businesses adhere to government regulations, they reduce the chance of investigations and helps to keep production on trac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Training and edu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tter trained and educated workers are more productive worker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sequences of Non-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fini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 labor and other areas of economics, the amount of output (goods and services) per unit of input (resources, raw materials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r example, the quantity of a product produced per hour of lab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utputs / inpu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Busines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compete successfully in a global econom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n a business produces more products in more efficient and cost-effective ways, then it can sell these products at more competitive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Work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f a business improves productivity, increases its sales, and brings in more profit, the employees are bound to benefi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Consum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n businesses are productive, consumers have more things to choose from at lower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Socie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r productivity as a nation benefits society by meeting people’s needs and wants more effectivel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provides us with more products at competitive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creased national income and a higher standard of liv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Econom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general economic growth of a country is tied to its level of productiv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oss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mestic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oduct (GDP) – everything a country produces in a yea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BS00561_" descr=""/>
          <p:cNvPicPr/>
          <p:nvPr/>
        </p:nvPicPr>
        <p:blipFill>
          <a:blip r:embed="rId1"/>
          <a:stretch/>
        </p:blipFill>
        <p:spPr>
          <a:xfrm>
            <a:off x="809640" y="2722680"/>
            <a:ext cx="39020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drop in productivity can have a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negativ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effect resulting in infl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st of labor goes u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ces r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ople buy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les f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employment incre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BD05368_" descr=""/>
          <p:cNvPicPr/>
          <p:nvPr/>
        </p:nvPicPr>
        <p:blipFill>
          <a:blip r:embed="rId1"/>
          <a:stretch/>
        </p:blipFill>
        <p:spPr>
          <a:xfrm>
            <a:off x="4983120" y="2214720"/>
            <a:ext cx="36640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easur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Worker productiv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mount of work he/she can produ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mount of time needed to do the work, 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netary value of the 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Business productiv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umber of products produced / # steps involv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tal sales $ / # of salespeo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tal sales $ / cost making the s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nhanc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Hinder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1:29:31Z</dcterms:created>
  <dc:creator>Owner</dc:creator>
  <dc:description/>
  <dc:language>en-US</dc:language>
  <cp:lastModifiedBy>lp_Schroeder</cp:lastModifiedBy>
  <dcterms:modified xsi:type="dcterms:W3CDTF">2010-03-12T17:16:28Z</dcterms:modified>
  <cp:revision>4</cp:revision>
  <dc:subject/>
  <dc:title>Productivity</dc:title>
</cp:coreProperties>
</file>