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B5B-84C5-4072-85F1-2A506153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242-56C9-4590-B5E4-16C40D7A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1A9-D7DA-407A-9ABE-DAA32A5A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465-88F7-4D51-BA94-0FD82377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1F55-34E4-4AFB-BEFE-C4CF2606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C8A7-7A15-49BA-B902-30CEA41A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34AC-4FA1-451A-8860-1B765BA1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D55C-E0FC-4F51-8C4F-DF9FA81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AE6-A859-4855-B483-57E40F08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2917-13F2-483C-BDFB-DF5865C8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1CA-D12D-4472-BC6B-3DBB8D7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D4C-26CF-4A20-B373-AAEF733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7E8E-0403-479C-B2B8-6EDF7F6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1C2-7712-47F5-BCC6-33F58BB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F62D-D72A-471E-AC82-A10C056A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03FE-7226-4147-B319-4BB93E7C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A9F8-A647-4BBE-B61C-2DC6E438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347-6B1C-4E2A-A80C-1DDC2BEF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536-81FE-4A97-9D00-A6A336A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C24-E2EC-4BD2-9286-CBB9ED42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A65-A793-4CF4-8CCF-19143D35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9E6-6C54-4EE1-B0BE-4B00748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0C8-C393-4065-813E-A6FF7B7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F7F-B99F-4DC2-A79B-F85B0AC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246-6DCC-40AF-8D0A-CB764E4BFED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6B2-94B6-4DD5-8A74-9C44F9921A8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oductivity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siness Econom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rs. Schroed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 / Division of lab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pecializ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making the best use of the resources availa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Division of labo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each worker specializes in a limited number of activities that are a part of the larger production proces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creased capital invest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vote a portion of profits to purchase updated equipment; reinvestment in compan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Mass p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production of a few products but in large quantiti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s productivity because it reduces wasted time, energy, and resour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Research and develop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y determining better processes, refining or simplifying existing products or developing new products, researcher make the production process more effici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Working within government regu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businesses adhere to government regulations, they reduce the chance of investigations and helps to keep production on tra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Training and edu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ter trained and educated workers are more productive worker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creas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sequences of Non-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 labor and other areas of economics, the amount of output (goods and services) per unit of input (resources, raw materials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r example, the quantity of a product produced per hour of lab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utputs / inpu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compete successfully in a global econom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a business produces more products in more efficient and cost-effective ways, then it can sell these products at more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a business improves productivity, increases its sales, and brings in more profit, the employees are bound to benefi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Consum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businesses are productive, consumers have more things to choose from at lower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ocie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r productivity as a nation benefits society by meeting people’s needs and wants more effectivel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provides us with more products at competitive pric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creased national income and a higher standard of liv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Econom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general economic growth of a country is tied to its level of productiv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s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mestic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duct (GDP) – everything a country produces in a yea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BS00561_" descr=""/>
          <p:cNvPicPr/>
          <p:nvPr/>
        </p:nvPicPr>
        <p:blipFill>
          <a:blip r:embed="rId1"/>
          <a:stretch/>
        </p:blipFill>
        <p:spPr>
          <a:xfrm>
            <a:off x="809640" y="2722680"/>
            <a:ext cx="3902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drop in productivity can have a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effect resulting in infl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st of labor goes 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ces r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ople buy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les f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employment incre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ductivity Effects Socie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BD05368_" descr=""/>
          <p:cNvPicPr/>
          <p:nvPr/>
        </p:nvPicPr>
        <p:blipFill>
          <a:blip r:embed="rId1"/>
          <a:stretch/>
        </p:blipFill>
        <p:spPr>
          <a:xfrm>
            <a:off x="4983120" y="2214720"/>
            <a:ext cx="3664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asu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orker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work he/she can produ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mount of time needed to do the work, 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netary value of the 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Business produ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mber of products produced / # steps involv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# of salespeo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tal sales $ / cost making the s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nhanc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Hindering Productivit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1:29:31Z</dcterms:created>
  <dc:creator>Owner</dc:creator>
  <dc:description/>
  <dc:language>en-US</dc:language>
  <cp:lastModifiedBy>lp_Schroeder</cp:lastModifiedBy>
  <dcterms:modified xsi:type="dcterms:W3CDTF">2010-03-12T17:16:28Z</dcterms:modified>
  <cp:revision>4</cp:revision>
  <dc:subject/>
  <dc:title>Productivity</dc:title>
</cp:coreProperties>
</file>