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4ED-0E99-4F77-94D5-92686613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5EC-8F38-4AB6-AD94-E11050FB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D62-3ADF-4618-B37F-BC2A909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E23-65E5-4A87-B296-76F26AC8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F07-63A5-44EC-BE99-8D7A2507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1465-0283-4293-84D5-6E2ADE8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0080-0600-47DA-93A5-F53200F6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F47C-D753-4362-82CC-859EDBB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C70-59DC-4AE6-A39D-FE503D74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F92C-C7F5-487D-B434-5A5C1C27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38F9-7EA0-4F07-9445-1453AD6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84F-DD82-4F53-B869-180252E0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7826-4F37-45B9-B21D-4A50AAB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04C-B3D0-4F14-81D6-91C8054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B67E-EC6A-4AFD-8667-9E30614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46C7-DE24-4EBB-949A-0C826F84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23CF-33FF-415E-8EA2-5767ADD7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4EB-CB12-40FB-A7D9-0990C55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64D-D1F4-4EB2-91A6-87FE3FB1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39F-F348-488D-B25C-63C3593F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7BE-439E-4F9D-9C8E-69C151A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C5C-34CC-45D6-9E35-3869476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4B6-5E7C-4965-A366-1FAFB31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515-D9FD-485C-9E3B-D1D9D89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240C-AA9C-4A34-8F65-24A4FBC7FD0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CCE-8291-456D-88AA-8650ABB0DFF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oductivit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siness Econom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rs. Schroed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 / Division of lab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making the best use of the resources availa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ivision of lab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each worker specializes in a limited number of activities that are a part of the larger production proces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creased capital invest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vote a portion of profits to purchase updated equipment; reinvestment in compan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ss p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roduction of a few products but in large quant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s productivity because it reduces wasted time, energy, and resour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Research and develop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determining better processes, refining or simplifying existing products or developing new products, researcher make the production process more effici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Working within government regu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businesses adhere to government regulations, they reduce the chance of investigations and helps to keep production on tra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Training and edu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ter trained and educated workers are more productive worker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sequences of Non-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 labor and other areas of economics, the amount of output (goods and services) per unit of input (resources, raw materials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r example, the quantity of a product produced per hour of lab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utputs / inpu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compete successfully in a global econom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a business produces more products in more efficient and cost-effective ways, then it can sell these products at more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a business improves productivity, increases its sales, and brings in more profit, the employees are bound to benef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Consum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businesses are productive, consumers have more things to choose from at lower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oc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r productivity as a nation benefits society by meeting people’s needs and wants more effectivel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provides us with more products at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d national income and a higher standard of liv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Econ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general economic growth of a country is tied to its level of productiv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s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mestic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duct (GDP) – everything a country produces in a ye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BS00561_" descr=""/>
          <p:cNvPicPr/>
          <p:nvPr/>
        </p:nvPicPr>
        <p:blipFill>
          <a:blip r:embed="rId1"/>
          <a:stretch/>
        </p:blipFill>
        <p:spPr>
          <a:xfrm>
            <a:off x="809640" y="2722680"/>
            <a:ext cx="3902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drop in productivity can have a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effect resulting in infl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st of labor goes 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s 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ople buy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les 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employment incr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BD05368_" descr=""/>
          <p:cNvPicPr/>
          <p:nvPr/>
        </p:nvPicPr>
        <p:blipFill>
          <a:blip r:embed="rId1"/>
          <a:stretch/>
        </p:blipFill>
        <p:spPr>
          <a:xfrm>
            <a:off x="4983120" y="2214720"/>
            <a:ext cx="3664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asu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work he/she can produ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time needed to do the work, 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netary value of the 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products produced / # steps involv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# of salespeo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cost making the s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nhanc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inde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1:29:31Z</dcterms:created>
  <dc:creator>Owner</dc:creator>
  <dc:description/>
  <dc:language>en-US</dc:language>
  <cp:lastModifiedBy>lp_Schroeder</cp:lastModifiedBy>
  <dcterms:modified xsi:type="dcterms:W3CDTF">2010-03-12T17:16:28Z</dcterms:modified>
  <cp:revision>4</cp:revision>
  <dc:subject/>
  <dc:title>Productivity</dc:title>
</cp:coreProperties>
</file>