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7BF-59F0-40DE-AA12-3D0278AE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629-CC9D-427C-98F7-A87390B3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F66-08B5-45CC-ABB1-99F39486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EFC-DD9A-4C82-B2BF-3BBA9E2B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7AA7-DED3-4026-A586-CA2FD3C6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DD5F-84E7-4724-8AE4-426C4F7C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BC71-6DB5-4B18-8A9C-52D98A8B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AFD0-B339-4514-83C5-D4F446E3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C2EF-DED7-45CD-9F07-1F840A88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B7DA-1FBB-474D-BC28-09829973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EB1A-F38C-4AFB-9660-FF66DFFB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6D9-573F-4CE5-B91A-D2171F0A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31A2-777C-4A40-9FA1-B107678D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BDC8-7C4D-43DF-BB7B-32CBE145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98FC-A26E-485F-92BE-CEC93742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CE6A-B0FF-4EE0-93B3-783605B6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3732-7A01-4E08-8C1B-CE79ADAE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9AA-1AF9-4DD8-9877-B0BC8BBA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533-C7A8-4F50-9A57-98A82400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C14-6335-4614-9342-299DBBC6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49E-EB24-45F4-A1E7-3D9D140D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464-FCA5-4785-8335-51A83FBF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487-B786-4B0A-B089-7CFDEF65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2B7-349E-4FB0-9483-46B040CA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3C78-F2EA-4BE7-9F87-977E1F92A36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3A49-E8D7-46AA-A151-30FF1917DC7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oductivity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usiness Economic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rs. Schroed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creas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Specialization / Division of lab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Specializati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– making the best use of the resources availabl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Division of labo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– each worker specializes in a limited number of activities that are a part of the larger production proces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Increased capital invest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vote a portion of profits to purchase updated equipment; reinvestment in compan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Mass p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 production of a few products but in large quantiti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creases productivity because it reduces wasted time, energy, and resour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Research and develop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y determining better processes, refining or simplifying existing products or developing new products, researcher make the production process more efficien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creas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Working within government regu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f businesses adhere to government regulations, they reduce the chance of investigations and helps to keep production on track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Training and edu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tter trained and educated workers are more productive worker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creas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nsequences of Non-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fini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 labor and other areas of economics, the amount of output (goods and services) per unit of input (resources, raw materials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r example, the quantity of a product produced per hour of labo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utputs / inpu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ductivity Effects Socie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Business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 compete successfully in a global econom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en a business produces more products in more efficient and cost-effective ways, then it can sell these products at more competitive pri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Work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f a business improves productivity, increases its sales, and brings in more profit, the employees are bound to benefi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Consum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en businesses are productive, consumers have more things to choose from at lower pri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Socie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ur productivity as a nation benefits society by meeting people’s needs and wants more effectively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 provides us with more products at competitive pri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creased national income and a higher standard of liv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ductivity Effects Socie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Econom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 general economic growth of a country is tied to its level of productiv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oss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mestic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oduct (GDP) – everything a country produces in a yea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ductivity Effects Socie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BS00561_" descr=""/>
          <p:cNvPicPr/>
          <p:nvPr/>
        </p:nvPicPr>
        <p:blipFill>
          <a:blip r:embed="rId1"/>
          <a:stretch/>
        </p:blipFill>
        <p:spPr>
          <a:xfrm>
            <a:off x="809640" y="2722680"/>
            <a:ext cx="39020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drop in productivity can have a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negativ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effect resulting in infla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st of labor goes u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ices ri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eople buy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les fal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employment increa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ductivity Effects Socie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BD05368_" descr=""/>
          <p:cNvPicPr/>
          <p:nvPr/>
        </p:nvPicPr>
        <p:blipFill>
          <a:blip r:embed="rId1"/>
          <a:stretch/>
        </p:blipFill>
        <p:spPr>
          <a:xfrm>
            <a:off x="4983120" y="2214720"/>
            <a:ext cx="36640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easur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Worker productiv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mount of work he/she can produ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mount of time needed to do the work, 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netary value of the 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Business productiv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umber of products produced / # steps involv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tal sales $ / # of salespeo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tal sales $ / cost making the s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nhanc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Hinder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1:29:31Z</dcterms:created>
  <dc:creator>Owner</dc:creator>
  <dc:description/>
  <dc:language>en-US</dc:language>
  <cp:lastModifiedBy>lp_Schroeder</cp:lastModifiedBy>
  <dcterms:modified xsi:type="dcterms:W3CDTF">2010-03-12T17:16:28Z</dcterms:modified>
  <cp:revision>4</cp:revision>
  <dc:subject/>
  <dc:title>Productivity</dc:title>
</cp:coreProperties>
</file>