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41568-9364-404E-ADDA-E246E3E4C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659E-BD7D-4609-ABA9-C7D60BCD1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43011-18DE-4E62-920E-B5881CBC7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6B462-9979-477C-8F9E-F06C1DFDA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EC043-707B-47A2-B543-18599F565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5A660-B9FA-4411-B177-C609DF5D9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3662D-E0A4-4C51-A0A7-96DAADC52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F4F47-3911-4A46-844D-78BCC3894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57937-32D1-4860-8111-FB1A9C8F0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98E0E-1B1D-4305-8311-4FD332350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06D6F-28C0-458A-AC4C-06D5411D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BF581-28D1-4121-96D9-9788539C2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AD934-9DCB-45F7-A16D-67AA259E8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484AE-29C4-41AC-B214-E4829FA5C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D336C-CDA7-4460-86EF-D1A993460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A9DFC-DA45-46AA-B85B-95532ECBE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9A7ED-66D2-4074-B37F-42219B345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1FA17-E6BC-4E54-80EB-42A049DA3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7E6C-7261-40C2-9380-B7F23DAE3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AA748-FB85-4653-9591-D68ADDF9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6E32C-9DE5-40AD-8E80-E5705116F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6BB1-B9F3-49E6-92A8-21671376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3615-6029-4064-B0B1-5BA8254F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F1D74-BF6F-41FF-BAA8-9AB33C1F8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5DEA-BF8B-4091-AADF-69E5FFE792B1}"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81EF-062C-4C1C-ADD4-CFD9B781F428}"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3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12T17:18:00Z</dcterms:modified>
  <cp:revision>2</cp:revision>
  <dc:subject/>
  <dc:title>Project #4 – China Dynasty</dc:title>
</cp:coreProperties>
</file>