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5851F-D6FC-4DFA-AA1D-C3CD7DFDC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C1D8-3915-4814-95A3-BBE367C2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4D117-331D-4048-8385-97F3F467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C762D-18CF-4E97-9146-A662F5CAA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4F49F-BD16-4E46-92BF-CE7B562B7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5F242-1156-42D7-995B-6383D1C72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8E70A-9A4D-4DC1-9C9B-DBD120689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FF6EE-09CF-4D52-83B0-B9681405B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51752-C7E4-4604-94E5-8BB5656E0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3ACCF-B285-416B-AE86-81F02B4F9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2E60A-88CA-4F65-B886-4DCC7FCD8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82569-FFCE-49E0-AC45-C0EE310A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ED08-FD44-4960-AE02-4E423BEE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C651-A7ED-48BE-A00A-E0ED81192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0358A-373C-4A8D-A87A-99C6699F8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2B5EB-3819-4CC9-A8EE-34C5AEF81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57B70-79B9-42A8-8D7F-9FB8CAFFF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18C0-866F-4BC1-AB6F-BEEE50BB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6516-E593-4DE7-A70F-7BD6FDC6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D25EF-4412-4F70-8036-01D0BC57D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394E-9400-4657-9DC5-351FE35DB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E02E-3925-41D4-9949-57BB994D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BE66-70C9-4516-A930-864B65681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3E35-4347-4C0D-8689-47C10CC73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C483-7894-4417-BC58-D1F608AC6AA0}"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E6A1-D21F-46B5-A9D2-55A82181625A}"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3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12T17:18:00Z</dcterms:modified>
  <cp:revision>2</cp:revision>
  <dc:subject/>
  <dc:title>Project #4 – China Dynasty</dc:title>
</cp:coreProperties>
</file>