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21FDC-92B1-42DC-A5C6-D799EA91E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DFB2-CBE1-45F3-B91A-56B45C01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4F544-7E52-4C65-A41C-A59823770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4C7E6-C553-4C10-B034-A08B32946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5AD75-BEDC-4542-99E5-B7198B615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5AE13-3ED6-4B8B-B6A1-3C20B549B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54196-0967-45A1-A32E-55F1311EC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9BB1-B232-4B1F-8C00-A62FC5864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013C7-3362-476B-8B75-F8B564B6D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146B9-5BB6-4BCD-9954-8B5DFA87F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EE3B4-74E3-46AA-BC0E-E45FAED1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9DA60-850F-47A2-9696-6F01DF36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C28C5-F745-4A12-9754-7E2AE9339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2ABF0-D25D-44D2-B65C-33C1F34E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CE140-EF28-453E-BECC-98B0F2826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AB1A1-A276-4845-8132-67FC56FA5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05380-DCE8-4704-B1CD-81BE348B7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EEAC-7712-4CFD-A24F-522E061B8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F9D6-34A1-494F-BD9E-FB1D3088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E40C-7F03-4E9E-8616-718E683E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DC33-A33E-4719-8065-62F6C3323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DF2F-9BF8-465D-94A7-B69E8CB8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3B9E-8053-43AA-ADA4-621680B5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D110-77AE-4E04-A1A5-BA63E3E54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79F5-E732-4E26-8A0D-F1B2A5A84DC4}"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6DB7-49D6-4508-86E1-ADF511B52B88}"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3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12T17:18:00Z</dcterms:modified>
  <cp:revision>2</cp:revision>
  <dc:subject/>
  <dc:title>Project #4 – China Dynasty</dc:title>
</cp:coreProperties>
</file>