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1660-4E18-4AD1-979F-A3D76EB2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4A9E-2185-4BF2-8AED-8514EA3C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1843-B590-44E4-BC49-69392CE4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54D7-C981-4F41-9F07-4DD5BB05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B175-F7B4-4F22-8838-01220F6C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3006-F06B-4632-ABAB-3D254628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2055-E6CE-405A-942A-4BD1EC9A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50B1-807F-49AF-BABF-A29BA7F2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6EA1-CC15-40C4-82F5-A1CE1083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3FB7-9F93-42E8-AC50-EA458626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75D4-FC0F-416A-B797-B36BE3AB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9E5D-1BA1-4ADF-8048-6C90455E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2AB3-76E1-4C53-BA24-747332FF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F37D-7D8D-4EBF-B20A-AEDED4C7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F94C-9275-48AA-B1C7-E1009786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3017-1180-49C2-A119-71DBE398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7F79-9C47-4ABC-8F03-14E1626A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2964-B0B1-4C27-B462-670E47A9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AD8E-49CF-4EF5-8835-AAFA8050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E2FD-21BF-473B-BACE-48FAF6B6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53F0-F75E-4562-9071-122A3BED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3F5F-A785-4604-BC70-EE197668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1195-4959-4104-9BA8-59C526A1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398D-83CB-425E-9BB1-2A449C66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851A-637A-4D95-83CE-286B8783B81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A1EA-F8D7-476F-91B8-103D39C8BEE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conomic Goods and Servic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0" y="2927520"/>
            <a:ext cx="375912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rinciples of Busines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Wa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something you do not need for surviv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Economic wa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desires that can be satisfied by consuming goods, receiving services or participating in a leisure activit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on-economic wa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desires that cannot be satisfied by buying anything – they make you feel goo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Good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this generically means physical, tangible products used to satisfy people's wants and need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Servic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Activities that provide direct satisfaction of wants and needs without the production of tangible products or good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onsumer good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goods and services bought for personal u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Industrial good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goods or components produced for use primarily in the production of other good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Goods &amp;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o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ng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vi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ang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ssify Consumer Go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rable consumer go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ashing machines, cars, refrigera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ve a life of over 3 yea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-durable consumer go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wels, food, clot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ve a life of less than 3 yea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ssify Industrial Go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chine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ufacturing par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w materi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quipmen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Can’t I Have That??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carcit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the basic economic problem faced by individuals, families, businesses, and the governmen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ss goods are available than the demand for the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o little money available for potential buy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ent in all market typ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Dollar Vo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dollar spent casts a ‘vote’ for the good or service purchas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more ‘votes’ a good or service receives, the more likely it will continue to be produc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a good or service gets little or no ‘votes,’ then the company must re-think its plan to produce 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8:04:38Z</dcterms:created>
  <dc:creator>lp_schroeder</dc:creator>
  <dc:description/>
  <dc:language>en-US</dc:language>
  <cp:lastModifiedBy>lp_schroeder</cp:lastModifiedBy>
  <dcterms:modified xsi:type="dcterms:W3CDTF">2010-09-08T16:44:11Z</dcterms:modified>
  <cp:revision>5</cp:revision>
  <dc:subject/>
  <dc:title>Economic Goods and Services</dc:title>
</cp:coreProperties>
</file>