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CB41-D2D4-41AE-9F36-9C08FB96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45E2-6782-479A-99E0-728C5CF5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0606-7D1D-4812-8D8B-B954C8F92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F430-BC6D-46AA-ACDE-70C1E9723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8F13-7E09-4864-96D9-154373C13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E838-8206-4644-9820-B1CD240C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32C7-A61E-4860-B899-1808ABA9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0567-2E92-4D6A-B3C8-20BBF6C5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199A-3CAD-4642-BB06-3C3945C0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022C-AF02-48B5-9A55-A5AD5FD8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AB19-08F2-454C-B1F3-78D9635A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6C90-0C43-4182-813E-AAD18D84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18C4-5C55-41D7-9FC9-DDEE654F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64F8-D074-421F-9E16-CD570866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819A-8A6F-4FD1-AD79-3ED44847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9E04-7041-406B-8B5B-ED00364D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01D5-22A6-4159-980B-08A943D6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BF09-235A-44EC-A75C-D1866132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B70E-55F6-45C8-8B9E-0A59C5E0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17BA-DA91-457C-8DA4-B8008159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E8C4-74E2-46F3-AE50-8778568F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116E-6099-4D02-A0B2-A2E5ACEF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83DF-A047-417A-88C0-AED38B52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3BB4-196E-4AB2-89B0-649532E5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8CF5-E5AA-4CDD-9E24-DE5FBAA7B98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E622-13E8-4747-A904-8ADC75B76C3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conomic Goods and Servic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0" y="2927520"/>
            <a:ext cx="375912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rinciples of Busines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fini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Wan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something you do not need for surviv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Economic wan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desires that can be satisfied by consuming goods, receiving services or participating in a leisure activit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Non-economic wan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desires that cannot be satisfied by buying anything – they make you feel goo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Good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this generically means physical, tangible products used to satisfy people's wants and need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Service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Activities that provide direct satisfaction of wants and needs without the production of tangible products or good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fini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onsumer good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goods and services bought for personal u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Industrial good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goods or components produced for use primarily in the production of other good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Goods &amp; Serv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oo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ngi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vi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angi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assify Consumer Goo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rable consumer goo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ashing machines, cars, refrigerat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ve a life of over 3 yea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n-durable consumer goo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wels, food, cloth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ve a life of less than 3 yea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assify Industrial Goo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chine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ufacturing par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w materi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quipmen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y Can’t I Have That??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carcit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the basic economic problem faced by individuals, families, businesses, and the governmen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ss goods are available than the demand for the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o little money available for potential buye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sent in all market typ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Dollar Vo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 dollar spent casts a ‘vote’ for the good or service purchas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more ‘votes’ a good or service receives, the more likely it will continue to be produc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a good or service gets little or no ‘votes,’ then the company must re-think its plan to produce 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8:04:38Z</dcterms:created>
  <dc:creator>lp_schroeder</dc:creator>
  <dc:description/>
  <dc:language>en-US</dc:language>
  <cp:lastModifiedBy>lp_schroeder</cp:lastModifiedBy>
  <dcterms:modified xsi:type="dcterms:W3CDTF">2010-09-08T16:44:11Z</dcterms:modified>
  <cp:revision>5</cp:revision>
  <dc:subject/>
  <dc:title>Economic Goods and Services</dc:title>
</cp:coreProperties>
</file>