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EAE-BDB7-4D49-BB1B-FA6FF965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DDF-2F60-49D4-BAE8-0F2F9ECA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DD7-93CD-4A9A-A68D-4400316F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657-6DFB-4602-AE16-CB3C5E7A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8B1C-8E06-4161-93B4-0C566742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1992-CA67-4008-9C0B-364DF55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4770-D9FC-4FD5-8188-48F3CF02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635-64DF-40A3-A0BF-6F998D7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A935-93A7-419F-8AE4-B748E28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C94F-26CE-4AEF-9FAC-ADE304B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B6DF-9874-4DA0-9C74-7A0244C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07D-27E0-4252-A830-FE667592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A58-97B0-42F1-8575-51D9646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F96E-1492-45EA-A896-DC785C3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C8F-7747-4E98-ABF3-00DD56F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913-2343-4D4F-BF50-BDA0A8E3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6B96-C103-42D7-BA26-CE1627C1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6AF-7D1C-455B-B08D-7DAFAB1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B58-7FFA-4D5D-87F3-0C75392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4CF-E20C-4D4C-914C-F4C1EFD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CAF-5ECB-4BEF-A6D8-3ADDF5EC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F56-AD40-4B6C-8F01-52FBCA7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7D8-4363-4229-A1CF-8920F4C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270-2D28-444F-93E1-E50074E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F61-65EE-4FE8-98CB-A443362D7B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516-9C81-43BE-8217-D1785F5D88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conomic Goods and Servic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759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 of Busine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omething you do not need for surviv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 be satisfied by consuming goods, receiving services or participating in a leisure a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on-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not be satisfied by buying anything – they make you feel go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ood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his generically means physical, tangible products used to satisfy people's wants and n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ervi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ctivities that provide direct satisfaction of wants and needs without the production of tangible products or go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sumer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and services bought for personal 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ustrial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or components produced for use primarily in the production of other go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Goods &amp;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Consumer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 machines, cars, refrige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over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wels, food,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less than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Industrial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hin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ing p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w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an’t I Have That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carc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he basic economic problem faced by individuals, families, businesses, and the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goods are available than the demand for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little money available for potential buy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in all market ty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ollar Vo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ollar spent casts a ‘vote’ for the good or service purch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re ‘votes’ a good or service receives, the more likely it will continue to be produ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good or service gets little or no ‘votes,’ then the company must re-think its plan to produc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8:04:38Z</dcterms:created>
  <dc:creator>lp_schroeder</dc:creator>
  <dc:description/>
  <dc:language>en-US</dc:language>
  <cp:lastModifiedBy>lp_schroeder</cp:lastModifiedBy>
  <dcterms:modified xsi:type="dcterms:W3CDTF">2010-09-08T16:44:11Z</dcterms:modified>
  <cp:revision>5</cp:revision>
  <dc:subject/>
  <dc:title>Economic Goods and Services</dc:title>
</cp:coreProperties>
</file>