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4C5-A929-4BB5-BCF5-CDF80B94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A66-9B1E-4E05-A458-446475DA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742-E8F0-4F24-90EF-1C04EA11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9DA-AEC4-44B4-9282-7F254C06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1C7C-E2A1-4179-AA28-577CB434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E10A-4B87-49B7-B340-40F698E2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BD3C-CFD1-4F58-96C5-E992C292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30E9-C7C6-4DF2-9B11-47D34670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B65D-2D27-4EC2-8FE7-BB19BCC7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548E-41F9-4AEB-977C-5FFA3407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6AB-A3D2-4F33-A753-FB173FF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937-B9BD-4878-BFDA-2CA301B5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FAB9-653A-428F-896B-E524ACB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6BE5-7B0D-4045-867E-EF6BB059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76EC-F137-47F4-A7F0-39350380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BAEB-1A8B-4DA4-A8DA-90F4EE69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AC88-7A74-4719-B67A-BC1295A1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76C-8FDC-4621-9A60-DC31B183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B25-8F2A-4A91-B966-673DF13C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BA6-004D-4CBD-AC75-7C1587D9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5D0-3763-46DD-BDCE-DF23A7F5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F12-07F4-4367-876C-127A2DCF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A9B-70AA-4FD0-B17A-0D5B57C1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3E0-6503-4252-B014-9392B37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34E9-FA79-40E7-AD01-31A33AE4368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A395-BB6B-48EE-BF51-92B1C3BCCD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conomic Goods and Servic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37591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nciples of Busine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omething you do not need for surviv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Economic 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esires that can be satisfied by consuming goods, receiving services or participating in a leisure activit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on-economic 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esires that cannot be satisfied by buying anything – they make you feel goo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ood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this generically means physical, tangible products used to satisfy people's wants and nee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ervic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ctivities that provide direct satisfaction of wants and needs without the production of tangible products or go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sumer go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goods and services bought for personal 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ustrial go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goods or components produced for use primarily in the production of other go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Goods &amp;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ng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ang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y Consumer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able consumer g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 machines, cars, refriger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a life of over 3 yea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durable consumer g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wels, food, clo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a life of less than 3 yea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y Industrial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hin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ufacturing pa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w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p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Can’t I Have That??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carc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the basic economic problem faced by individuals, families, businesses, and the govern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goods are available than the demand for th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o little money available for potential buy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 in all market typ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ollar Vo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dollar spent casts a ‘vote’ for the good or service purcha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re ‘votes’ a good or service receives, the more likely it will continue to be produc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good or service gets little or no ‘votes,’ then the company must re-think its plan to produce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8:04:38Z</dcterms:created>
  <dc:creator>lp_schroeder</dc:creator>
  <dc:description/>
  <dc:language>en-US</dc:language>
  <cp:lastModifiedBy>lp_schroeder</cp:lastModifiedBy>
  <dcterms:modified xsi:type="dcterms:W3CDTF">2010-09-08T16:44:11Z</dcterms:modified>
  <cp:revision>5</cp:revision>
  <dc:subject/>
  <dc:title>Economic Goods and Services</dc:title>
</cp:coreProperties>
</file>